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BC9A-F1CD-4712-8371-158FA7D0F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A641-97A7-4637-8587-8302EF185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9E3F-2984-46F2-A77F-679286BD4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0654-A34C-4C1E-9D6E-D4AF5B6E8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4407-1A16-4DAB-AA5E-15C51E15F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E118-9846-404B-AC34-50E184E2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F042-67BD-4232-8150-3C4ED3AE8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7385-610D-4DEE-BE6B-3DDF5BB1B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0600-188D-4434-9105-69E7C8480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AA81-35D2-42E9-85F1-8005087E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CDCF-6EAE-43D3-B38F-33FF0CC9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3579-A9BC-48DF-B56B-AF589F83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96530D-1A49-4B79-B600-03D036A8274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8FC049-A8FE-4AD5-B3B0-CE5736B77F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 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What is water made of? (think about the periodic table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Practic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9836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 iron nail rusts. The iron reacts with oxygen in the air to make rust (iron oxide).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4 Fe + 3 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2 Fe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are the product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are the reactant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6000840" y="3086280"/>
            <a:ext cx="28573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quation Game – Hold up either your product or reactant sign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85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2H</a:t>
            </a:r>
            <a:r>
              <a:rPr b="0" lang="en-US" sz="6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 + O</a:t>
            </a:r>
            <a:r>
              <a:rPr b="0" lang="en-US" sz="6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 2H</a:t>
            </a:r>
            <a:r>
              <a:rPr b="0" lang="en-US" sz="6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quation Game – Hold up either your product or reactant sign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85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2 Al +  3 Br</a:t>
            </a:r>
            <a:r>
              <a:rPr b="0" lang="en-US" sz="5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Al</a:t>
            </a:r>
            <a:r>
              <a:rPr b="0" lang="en-US" sz="5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Br</a:t>
            </a:r>
            <a:r>
              <a:rPr b="0" lang="en-US" sz="5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quation Game – Hold up either your product or reactant sign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85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43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43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 + 3O</a:t>
            </a:r>
            <a:r>
              <a:rPr b="0" lang="en-US" sz="43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  2CO</a:t>
            </a:r>
            <a:r>
              <a:rPr b="0" lang="en-US" sz="43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 + 3H</a:t>
            </a:r>
            <a:r>
              <a:rPr b="0" lang="en-US" sz="43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O 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quation Game – Hold up either your product or reactant sign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85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43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PO</a:t>
            </a:r>
            <a:r>
              <a:rPr b="0" lang="en-US" sz="43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 + 3KOH </a:t>
            </a:r>
            <a:r>
              <a:rPr b="0" lang="en-US" sz="4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 K</a:t>
            </a:r>
            <a:r>
              <a:rPr b="0" lang="en-US" sz="43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PO</a:t>
            </a:r>
            <a:r>
              <a:rPr b="0" lang="en-US" sz="4300" spc="-1" strike="noStrike" baseline="-25000">
                <a:solidFill>
                  <a:srgbClr val="000000"/>
                </a:solidFill>
                <a:latin typeface="Calibri"/>
              </a:rPr>
              <a:t>4 </a:t>
            </a: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+ 3H</a:t>
            </a:r>
            <a:r>
              <a:rPr b="0" lang="en-US" sz="43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quation Game – Hold up either your product or reactant sign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85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3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Calibri"/>
              </a:rPr>
              <a:t>12Rb + 2NO</a:t>
            </a:r>
            <a:r>
              <a:rPr b="0" lang="en-US" sz="53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5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5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5300" spc="-1" strike="noStrike">
                <a:solidFill>
                  <a:srgbClr val="000000"/>
                </a:solidFill>
                <a:latin typeface="Calibri"/>
              </a:rPr>
              <a:t> 6Rb</a:t>
            </a:r>
            <a:r>
              <a:rPr b="0" lang="en-US" sz="53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5300" spc="-1" strike="noStrike">
                <a:solidFill>
                  <a:srgbClr val="000000"/>
                </a:solidFill>
                <a:latin typeface="Calibri"/>
              </a:rPr>
              <a:t>O + N</a:t>
            </a:r>
            <a:r>
              <a:rPr b="0" lang="en-US" sz="53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53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quation Game – Hold up either your product or reactant sign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85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5000" spc="-1" strike="noStrike">
                <a:solidFill>
                  <a:srgbClr val="000000"/>
                </a:solidFill>
                <a:latin typeface="Calibri"/>
              </a:rPr>
              <a:t>2NO</a:t>
            </a:r>
            <a:r>
              <a:rPr b="0" lang="es-ES" sz="5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5000" spc="-1" strike="noStrike">
                <a:solidFill>
                  <a:srgbClr val="000000"/>
                </a:solidFill>
                <a:latin typeface="Calibri"/>
              </a:rPr>
              <a:t> + 7H</a:t>
            </a:r>
            <a:r>
              <a:rPr b="0" lang="es-ES" sz="5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5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5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5000" spc="-1" strike="noStrike">
                <a:solidFill>
                  <a:srgbClr val="000000"/>
                </a:solidFill>
                <a:latin typeface="Calibri"/>
              </a:rPr>
              <a:t> 2NH</a:t>
            </a:r>
            <a:r>
              <a:rPr b="0" lang="es-ES" sz="5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s-ES" sz="5000" spc="-1" strike="noStrike">
                <a:solidFill>
                  <a:srgbClr val="000000"/>
                </a:solidFill>
                <a:latin typeface="Calibri"/>
              </a:rPr>
              <a:t> + 4H</a:t>
            </a:r>
            <a:r>
              <a:rPr b="0" lang="es-ES" sz="5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50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quation Game – Hold up either your product or reactant sign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85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6200" spc="-1" strike="noStrike">
                <a:solidFill>
                  <a:srgbClr val="000000"/>
                </a:solidFill>
                <a:latin typeface="Calibri"/>
              </a:rPr>
              <a:t>2POCl</a:t>
            </a:r>
            <a:r>
              <a:rPr b="0" lang="es-ES" sz="6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s-ES" sz="6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6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6200" spc="-1" strike="noStrike">
                <a:solidFill>
                  <a:srgbClr val="000000"/>
                </a:solidFill>
                <a:latin typeface="Calibri"/>
              </a:rPr>
              <a:t> 2PCl</a:t>
            </a:r>
            <a:r>
              <a:rPr b="0" lang="es-ES" sz="6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s-ES" sz="6200" spc="-1" strike="noStrike">
                <a:solidFill>
                  <a:srgbClr val="000000"/>
                </a:solidFill>
                <a:latin typeface="Calibri"/>
              </a:rPr>
              <a:t> + O</a:t>
            </a:r>
            <a:r>
              <a:rPr b="0" lang="es-ES" sz="6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6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silver spoon tarnishes. The silver reacts with sulfur in the air to make silver sulfide, the black material we call tarnish.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2 Ag + S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Ag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product is made as a result of silver tarnishing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6730920" y="0"/>
            <a:ext cx="2413080" cy="18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silver spoon tarnishes. The silver reacts with sulfur in the air to make silver sulfide, the black material we call tarnish.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2 Ag + S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Ag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are the reactants in this equation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6730920" y="0"/>
            <a:ext cx="2413080" cy="18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ticipatory S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 n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st Tracking and Rew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oup Prac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ependent Prac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o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320"/>
            <a:ext cx="8229600" cy="49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 antacid (calcium hydroxide) neutralizes stomach acid (hydrochloric acid)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(OH)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+ 2 HCl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aCl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+ 2 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ich reactants are consumed during this chemical reactio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7516800" y="0"/>
            <a:ext cx="162720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417320"/>
            <a:ext cx="8229600" cy="49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 antacid (calcium hydroxide) neutralizes stomach acid (hydrochloric acid)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(OH)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+ 2 HCl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aCl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+ 2 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are the products of this equatio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7516800" y="0"/>
            <a:ext cx="162720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it 8 Tes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Content Placeholder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9.1 Chemical Equ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mon Chemical Formul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300" spc="-1" strike="noStrike" u="sng">
                <a:solidFill>
                  <a:srgbClr val="000000"/>
                </a:solidFill>
                <a:uFillTx/>
                <a:latin typeface="Calibri"/>
              </a:rPr>
              <a:t>H</a:t>
            </a:r>
            <a:r>
              <a:rPr b="1" lang="en-US" sz="4300" spc="-1" strike="noStrike" u="sng" baseline="-25000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1" lang="en-US" sz="4300" spc="-1" strike="noStrike" u="sng">
                <a:solidFill>
                  <a:srgbClr val="000000"/>
                </a:solidFill>
                <a:uFillTx/>
                <a:latin typeface="Calibri"/>
              </a:rPr>
              <a:t>0 – water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300" spc="-1" strike="noStrike" u="sng">
                <a:solidFill>
                  <a:srgbClr val="000000"/>
                </a:solidFill>
                <a:uFillTx/>
                <a:latin typeface="Calibri"/>
              </a:rPr>
              <a:t>C0</a:t>
            </a:r>
            <a:r>
              <a:rPr b="1" lang="en-US" sz="4300" spc="-1" strike="noStrike" u="sng" baseline="-25000">
                <a:solidFill>
                  <a:srgbClr val="000000"/>
                </a:solidFill>
                <a:uFillTx/>
                <a:latin typeface="Calibri"/>
              </a:rPr>
              <a:t>2 </a:t>
            </a:r>
            <a:r>
              <a:rPr b="1" lang="en-US" sz="4300" spc="-1" strike="noStrike" u="sng">
                <a:solidFill>
                  <a:srgbClr val="000000"/>
                </a:solidFill>
                <a:uFillTx/>
                <a:latin typeface="Calibri"/>
              </a:rPr>
              <a:t>– carbon dioxide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300" spc="-1" strike="noStrike" u="sng">
                <a:solidFill>
                  <a:srgbClr val="000000"/>
                </a:solidFill>
                <a:uFillTx/>
                <a:latin typeface="Calibri"/>
              </a:rPr>
              <a:t>O</a:t>
            </a:r>
            <a:r>
              <a:rPr b="1" lang="en-US" sz="4300" spc="-1" strike="noStrike" u="sng" baseline="-25000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1" lang="en-US" sz="4300" spc="-1" strike="noStrike" u="sng">
                <a:solidFill>
                  <a:srgbClr val="000000"/>
                </a:solidFill>
                <a:uFillTx/>
                <a:latin typeface="Calibri"/>
              </a:rPr>
              <a:t> – oxygen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3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1" lang="en-US" sz="4300" spc="-1" strike="noStrike" u="sng" baseline="-25000">
                <a:solidFill>
                  <a:srgbClr val="000000"/>
                </a:solidFill>
                <a:uFillTx/>
                <a:latin typeface="Calibri"/>
              </a:rPr>
              <a:t>6</a:t>
            </a:r>
            <a:r>
              <a:rPr b="1" lang="en-US" sz="4300" spc="-1" strike="noStrike" u="sng">
                <a:solidFill>
                  <a:srgbClr val="000000"/>
                </a:solidFill>
                <a:uFillTx/>
                <a:latin typeface="Calibri"/>
              </a:rPr>
              <a:t>H</a:t>
            </a:r>
            <a:r>
              <a:rPr b="1" lang="en-US" sz="4300" spc="-1" strike="noStrike" u="sng" baseline="-25000">
                <a:solidFill>
                  <a:srgbClr val="000000"/>
                </a:solidFill>
                <a:uFillTx/>
                <a:latin typeface="Calibri"/>
              </a:rPr>
              <a:t>12</a:t>
            </a:r>
            <a:r>
              <a:rPr b="1" lang="en-US" sz="4300" spc="-1" strike="noStrike" u="sng">
                <a:solidFill>
                  <a:srgbClr val="000000"/>
                </a:solidFill>
                <a:uFillTx/>
                <a:latin typeface="Calibri"/>
              </a:rPr>
              <a:t>O</a:t>
            </a:r>
            <a:r>
              <a:rPr b="1" lang="en-US" sz="4300" spc="-1" strike="noStrike" u="sng" baseline="-25000">
                <a:solidFill>
                  <a:srgbClr val="000000"/>
                </a:solidFill>
                <a:uFillTx/>
                <a:latin typeface="Calibri"/>
              </a:rPr>
              <a:t>6</a:t>
            </a:r>
            <a:r>
              <a:rPr b="1" lang="en-US" sz="4300" spc="-1" strike="noStrike" u="sng">
                <a:solidFill>
                  <a:srgbClr val="000000"/>
                </a:solidFill>
                <a:uFillTx/>
                <a:latin typeface="Calibri"/>
              </a:rPr>
              <a:t> – sugar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300" spc="-1" strike="noStrike" u="sng">
                <a:solidFill>
                  <a:srgbClr val="000000"/>
                </a:solidFill>
                <a:uFillTx/>
                <a:latin typeface="Calibri"/>
              </a:rPr>
              <a:t>NaCl – table salt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300" spc="-1" strike="noStrike" u="sng">
                <a:solidFill>
                  <a:srgbClr val="000000"/>
                </a:solidFill>
                <a:uFillTx/>
                <a:latin typeface="Calibri"/>
              </a:rPr>
              <a:t>HCl – hydrochloric acid 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Practic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ollowing equation shows the chemical reaction that occurs when methane burn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+ 2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+ 2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the chemical formula of methan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emical Equ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A chemical equation uses symbols to show the reactants and products of a chemical reaction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The reactants are what you have before a chemical reaction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The products are what a chemical reaction make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Practic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In the marshmallow demonstration, what did we start with?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What did we end up with?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812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The formulas for the reactants are written on the left of the arrow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The formulas for the products are written on the right of the arrow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The arrow is read as “yields.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199880" indent="-171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 + O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CO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is reads “carbon plus oxygen react to yield carbon dioxide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3T04:20:24Z</dcterms:created>
  <dc:creator>Caroline Roth</dc:creator>
  <dc:description/>
  <dc:language>en-US</dc:language>
  <cp:lastModifiedBy>Caroline Roth</cp:lastModifiedBy>
  <dcterms:modified xsi:type="dcterms:W3CDTF">2011-04-05T02:15:25Z</dcterms:modified>
  <cp:revision>5</cp:revision>
  <dc:subject/>
  <dc:title>Do Now</dc:title>
</cp:coreProperties>
</file>